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2D32-19AA-4DEF-B939-96C3B5EEB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4472-DD6C-40BF-AA94-CD6BCD6BB46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4C28-D80B-4651-8B17-48F46E98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4516-4B70-41FE-8953-7205C335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F1E6-E455-4991-9719-A10FCE72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608C-1359-47AA-9EC9-E126D96D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E05D-FE5F-4AD5-8934-2AF3F652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61C0-E8CE-4514-B8BA-304B3453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7722-329C-4472-97F5-A212A2BB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83B8-B086-4277-BDCB-4046FC73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07D9-3299-4371-9B1F-6B5BD95C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EC35-6FB9-4ECA-B7C3-51319B88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A242-D040-4A8D-B480-07897197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6C4D-6C96-4A79-A870-EF485995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E1E5-7E38-421C-8B3D-3F2CA848EBE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Documents and Settings\Administrator\Local Settings\Temporary Internet Files\Content.IE5\2QEQ1ZX6\MCj04382510000[1].wmf"/>
          <p:cNvPicPr/>
          <p:nvPr/>
        </p:nvPicPr>
        <p:blipFill>
          <a:blip r:embed="rId2"/>
          <a:stretch/>
        </p:blipFill>
        <p:spPr>
          <a:xfrm>
            <a:off x="1554120" y="1295280"/>
            <a:ext cx="5859360" cy="3886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What Goes Up Must Come Dow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3124080"/>
            <a:ext cx="7391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A 2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Jester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Century Learning Experience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b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Teresa Cannady, Kay Jones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Gladys Jones, Brenna Takat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Request for Feedbac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6781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ways to help students write a script for their video prod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help assessing students’ higher order thinking skil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371600" y="746280"/>
            <a:ext cx="6705720" cy="5203800"/>
          </a:xfrm>
          <a:prstGeom prst="rect">
            <a:avLst/>
          </a:prstGeom>
          <a:ln w="0">
            <a:noFill/>
          </a:ln>
        </p:spPr>
      </p:pic>
      <p:pic>
        <p:nvPicPr>
          <p:cNvPr id="71" name="MSSN00435A0000[1]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8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Jester"/>
              </a:rPr>
              <a:t>Weather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Jester"/>
              </a:rPr>
              <a:t>Unit Summary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Using prior knowledge of weather students will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rticipate in a weather web ques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gage in  interactive notebook activ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 a story and post it on a blog or wik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ign a weather instrumen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 a student  video productio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Curriculum-Framing Ques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684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Essential Ques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y is change necessary?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Unit Ques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the water cycle and weather related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es weather affect our everyday life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Content Ques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different types of precipitatio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cribe the water cyc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are weather instruments used to measure and record weather data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y do we have storms and how are they created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different types of clouds and are they associated with the type of weather we hav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What Goes Up Must Come Dow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Weather Video Produ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120" y="2209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production will help students develop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entury skills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rough the use of digital technology students will communicate their understanding  of weather by collaborating with their peers and producing a weather video. This will also enhance their creative writing and communication ski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C:\Documents and Settings\Administrator\Local Settings\Temporary Internet Files\Content.IE5\7QDTM1KA\MCj04315970000[1].png"/>
          <p:cNvPicPr/>
          <p:nvPr/>
        </p:nvPicPr>
        <p:blipFill>
          <a:blip r:embed="rId2"/>
          <a:stretch/>
        </p:blipFill>
        <p:spPr>
          <a:xfrm>
            <a:off x="7620120" y="457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Program Files\Microsoft Office\MEDIA\CAGCAT10\j0293828.wmf"/>
          <p:cNvPicPr/>
          <p:nvPr/>
        </p:nvPicPr>
        <p:blipFill>
          <a:blip r:embed="rId2"/>
          <a:stretch/>
        </p:blipFill>
        <p:spPr>
          <a:xfrm>
            <a:off x="380880" y="152280"/>
            <a:ext cx="1447920" cy="1522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Gauging Student Needs Assessmen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5228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urpose of the Assess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To gather information about what students already know, what they want to know and what they learned about weath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hat I want to Learn from my students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 want to find out what they already know about how the water cycle and weather are related and how weather affects our everyday liv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Gauging Student Needs Assessment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con’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w I have tried to promote higher order thinking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 want to know if students can synthesize  the stages of the water cycle and  analyze its effect on weath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w the assessment information helps me and my students plan for upcoming  activities in the uni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We will revisit this assessment throughout the unit for students to add their knowled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Our  Goals for the Cour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d ways to get students to apply their knowledge of weather in their everyday l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 about the different kinds of technology  availab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are ideas with other teach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Student Go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7391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 how meteorologists collect and apply their data to predict wea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become more independent learn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6:23:23Z</dcterms:created>
  <dc:creator> </dc:creator>
  <dc:description/>
  <dc:language>en-US</dc:language>
  <cp:lastModifiedBy>pcs</cp:lastModifiedBy>
  <dcterms:modified xsi:type="dcterms:W3CDTF">2009-05-28T16:46:45Z</dcterms:modified>
  <cp:revision>30</cp:revision>
  <dc:subject/>
  <dc:title>What Goes Up Must Come Down</dc:title>
</cp:coreProperties>
</file>